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998-8E87-4D4D-947A-81237619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268-51AB-44CE-B1D7-9399E2B0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1A2-6DF1-4610-B4FB-E27E7A44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C2A-FCE2-4A1D-958C-8E9DFFB9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2700-19F4-4D78-900E-F5C2551E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9EE4-14E2-47A2-9A8A-3F9D521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F697-0AD2-4D53-99BC-2143E32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99EA-D18F-423E-8877-3F910E6C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361F-713B-44FD-AD89-DE20D4F8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3C2-F06B-4C5F-A855-1E0653E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303-D194-4C38-8485-5D6F64B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944-6FD2-480F-AF44-241EF46B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B68D-6EC0-424E-B832-C7AC4A1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2A6-1951-46C9-B77F-E0BAEEE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7A81-D1D5-422F-A457-57D4A3A2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43E7-D740-4474-9A8A-068549AE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67A4-763D-4C47-B8C1-6A5C4E14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73DF-AA5E-49C7-9E8D-9845B807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60D3-B36C-4975-B6B8-ADCC2D5C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7246-1515-44F3-9EB4-99EF93B1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255F-16C3-421F-A1D4-8DECAC3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9E3E-FE5F-4D68-8658-DB2E9CB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6C4-3B67-4EB9-A1CA-8904B6C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667A-AC49-4423-9E4F-BE7D025E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4309-7D3A-4713-AC21-598D635F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DD63-FA67-4A75-9193-CB706E6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5A3F-36DE-4C62-BB33-DB2735A7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4015-CCB6-40EA-AC76-7531ABDF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083A-50EE-4AAD-89D3-44573153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972B-F63D-4343-940B-FED1DDF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E6-8CC7-4FDE-9F77-7AFEDD7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6B2-5948-4800-A069-1484233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BCB-F8D1-4A2B-9C98-BB4D8D6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ADA-8AF0-4DCA-A361-AA1748D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005-65EA-4C5A-88EB-9A63511B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635-2D4D-4054-BC12-28EA8FB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EAF-2364-4EB6-8EE2-5A627AA08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974B-2B0D-4FAD-B73F-314AB87BE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7693-FC96-4B97-B857-454D1823E8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odloga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СЕ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оц. др Катарина Парезановић-И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194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23004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 на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) техни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) медицин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ру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рапијске-биостимулати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 са малом енергиј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 коагулирајућ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e6"/>
                </a:solidFill>
                <a:latin typeface="Arial"/>
              </a:rPr>
              <a:t>Хируршки лас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хирургији се користе у виду ласерског скалп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у кога се оперативни резови изводе безкрвно,брзо зарастају и осигуравају потпуну стер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рочито су погодни за операције на паренхимним органима, код гнојних и малигних обо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990720"/>
            <a:ext cx="822024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Терапијски (биостимулативни) ла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физикалној медицини и рехабилитацији се користе ласери ниске снаге-хладни лас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e-N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r-jod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полупроводнички ласер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к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ју с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je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a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них 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на из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ски лaсeр (600-1100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знатно се абсорбују у води и пигментима па дубље продиру у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Ласери са коагулирајућим деј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3200" y="2209320"/>
            <a:ext cx="8359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ски зраци велике енергетске густине изазивају денатурацију беланчевина,тј.коаг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а је позната као фотокоагулација.Ова појава се користи за лечење аблације ретине ( одлубљивање мрежњач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 се за заустављање крварења код дијабетичне ретинопатије као и за заустављање крварења у једњаку,желуцу и цревима-аргонски лас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 скидање тетоважа, невуса и ве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Биоло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ко дејство ласерског зра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електр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o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лотни ефек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ергија ласерског зрачења се апсорбује у атомима и молекулима ткива,при чему настаје њихово кретање и трење,које даје топлотну енергију. Од ћелијских састојака најосетљивији су ферменти,њихова активност престаје најраније.Ово се дешава кад температура достигне 45 степени,на 55 степени настаје денатурација беланч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Механички ефе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д се ласерски зраци абсорбују у ткивима долази до напрезања ткива,долази до прскања ткива.Тај притисак код неодијумског ласера је 0,64 паскала.ово је посебно наглашено код туморск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хемијск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хемијске промене се углавном јављају на таласној дужини мањој од 500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m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аксимум апсорпције имају беланчевине и нуклеинск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биолошки одговор зависи од оптичких својстава ткива изложеног ласерском зраче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Стварање ендотокс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озрачења могу се појавити токсичне материје које називамо ендотоксини.Од њихове количине зависи и прогресивност оштећењ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електричн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повећањем густине енергије ласерског зрачења у озраченом ткиву се јавља поље високог електричног напона. Ово доводи до промене електричног потенцијала молекула и ћелија и поремећаја електричних карактеристика озраченог тк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Историјат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вој квантне електронике почиње крајем прошлог и почетком овог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штајн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917. 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хипотеза о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дукованој емисиј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асов и Прохоров 1964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физику развоја лас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hawlow 1981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асерску спектроскоп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ff"/>
                </a:solidFill>
                <a:latin typeface="Arial"/>
              </a:rPr>
              <a:t>ТЕРАПИЈСКО ДЕЛОВАЊЕ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Биостимул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ћелијску деобу (митозу) и синтезу ДНК и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број колагених влакана и синтезу колаг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синтезу А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размену кроз ћелијску мембра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мења дејство ензима у базалном слоју епи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умулише “брза” бета-А влакна (ГАТЕ ЦОНТРОЛ)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мањује лучење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обољшава фагоцит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мунолош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упресија Т и Б 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родужено преживљавање транспла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60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e6"/>
                </a:solidFill>
                <a:latin typeface="Arial"/>
              </a:rPr>
              <a:t>Т</a:t>
            </a:r>
            <a:r>
              <a:rPr b="1" lang="en-GB" sz="4400" spc="-1" strike="noStrike">
                <a:solidFill>
                  <a:srgbClr val="cccce6"/>
                </a:solidFill>
                <a:latin typeface="Arial"/>
              </a:rPr>
              <a:t>ехника примене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819520"/>
            <a:ext cx="6107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Скенирај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15-3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нуелн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серска акупун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Дозирање ласе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еквенција 1 - 1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спа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- 6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- 6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утроф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о 10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нфлам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га 5 - 10 мW акупункту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- 70 мW скенир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реме трајања 1 - 10 минута, 30 минута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ергија 4Ј, 6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8 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свежих повреда почиње се са малим дозама па се касније доза повећава као и време трајања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3040" y="609120"/>
            <a:ext cx="82137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78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УМАТОЛOГИЈА И СПОРТСКА МЕДИЦIН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исторзије, контузије, тенд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тендоваг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руптуре м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, ентези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и ентезопатије, с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прел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МЕНE НА КРВНИМ СУДОВИМ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рикси, улкус вар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сум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b.Rejno..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Е БОЛЕСТИ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акне, фу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ули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рпес симпл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х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пес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ост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нaлне фисур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ГИЈА И 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етрити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днексити, ендоцервицити, ерозије гр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аститис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ЛМ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лауком, аблација рети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мигрене,парезе чак 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. facialisa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шићне атрофије и дистроф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УМАТ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дегенеративни,ванзглобни,запаљенски у фази реми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ТОМАТ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парадонтозе,стоматити, промене на слузокож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1280" y="1666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Контраиндикације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ace-m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ца у развоју у пределу зона окошт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лиг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ебрилна с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утна запаљенск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3246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45720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Мере за</a:t>
            </a:r>
            <a:r>
              <a:rPr b="1" lang="sr-Latn-CS" sz="4400" spc="-1" strike="noStrike">
                <a:solidFill>
                  <a:srgbClr val="ccffff"/>
                </a:solidFill>
                <a:latin typeface="Arial"/>
              </a:rPr>
              <a:t>ш</a:t>
            </a: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тите од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гледати  у ласерски сн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очаре са посебним фил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Дефиниција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ласерске свет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ght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plification by </a:t>
            </a:r>
            <a:br>
              <a:rPr sz="2800"/>
            </a:b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imulated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ission of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ма ус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р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н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херентне монохроматске свет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понтана и стимулисана емисиј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Особине ласерске свет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73120"/>
            <a:ext cx="3886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кохерентна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ан правац простир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монохромати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на бо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ус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40384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Основни елементи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00100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ктивно сред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мн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фотоне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серска пум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звор енергије за поб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он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пут емитованих фотона и њихово дејство на активно средств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Чине га два паралелна огледала између којих је актив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стем за хла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         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са 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400-780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са не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780-1500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извору по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оп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а коришћењем самостално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) електројониз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) топл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) хемиј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) рекомбин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На основу активног материј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а) чврсте (рубински, неодију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б) теч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ц) гас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д) молекулар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е) јон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ф) електројонизацио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г) гасодинамич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х) хемиј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ј) плазме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контину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импулс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9:00:25Z</dcterms:created>
  <dc:creator>WIN98SE</dc:creator>
  <dc:description/>
  <dc:language>en-US</dc:language>
  <cp:lastModifiedBy>katarinaparezanovicilic@gmail.com</cp:lastModifiedBy>
  <dcterms:modified xsi:type="dcterms:W3CDTF">2020-09-26T16:53:27Z</dcterms:modified>
  <cp:revision>56</cp:revision>
  <dc:subject/>
  <dc:title>LASEROTERAPIJA </dc:title>
</cp:coreProperties>
</file>