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FD9-CF8E-4E26-B38C-8A73C490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263-529E-43B1-9CAA-88244291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A3252-74CA-411D-8781-1BB7F808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FBBB8-24DA-42CF-AFFB-72759712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9BB2A-CDF7-4DD7-999A-E55E80F7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9680A-4813-4E0F-BE23-5A27CFCF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C8587-289F-49A3-BD9D-52B4A96C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46674-4492-41E5-B8DE-FB0D6E3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4EA32-3544-40F9-9E78-6E7DE127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73619-EA5E-496C-AAF1-21702AC3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64805-E9B5-4DA1-8598-D3994138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A1765-8030-4EC1-B154-4E5A1ACE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A05-F285-4420-AAA7-CFAD5BE9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56827-C504-4002-9AFD-83B9EFD6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52CCF-480B-41C2-8E12-6CE287CA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4E43C-8213-470A-8A51-F0CB4639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133F4-DE44-4013-9F8C-5A53836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B1843-7A50-410A-8C8D-5962C760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C4922-CE44-4D29-AFE5-D0D8257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8BFE2-7D21-4967-8986-88F5CA56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2C116-EB0D-4470-AFEF-C1EF3414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69F81-7A90-45A8-94C9-253D28FF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C9FE3-58B9-4CD5-9CE8-14B7F1C6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B67-B367-43DD-A7E2-DD24D1D6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D8E36-D944-46D2-B602-AF4A1D54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B0622-DCDD-4337-B2B0-E9DDFF0B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C3758-7450-4C5B-9893-E0524731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F0E5C-6144-4275-B344-1B9A520C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64FEE-1395-4DBA-A9F9-9861C356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CB86B-592B-4790-BB17-6D64A96B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12561-3395-4C5C-A7B1-105E239E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7A323-BBE1-4622-9892-A1DF2ADB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C51B-068A-4AAF-9A46-9D4DE4BF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8BDB4-911A-48EA-9C1A-73F4EFC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E98A-D35E-44E4-B950-9EF1DC51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5E6C5-7BEC-4A85-B492-8D56584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F4961-A0D6-4572-B1E0-A9A179BB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E23A8-7961-4303-8310-BA982FD3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4047E-F2AF-463C-9099-8CF1F7E9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F9BE9-25AA-4B2D-917B-7B880A17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80A0C-A689-45E4-A0DD-BF75EE1A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5EC81-35DA-448E-9DD3-48191B3A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292A3-9ACB-4735-9D70-5BA99574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00FA8-B6F1-40DC-9D94-AA71ED6B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2A16D-8B22-44E0-A84D-05829D1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1D32-C735-4569-9215-0E8AB273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44A09-97B4-4972-8E80-ED5CE8F9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BFC6C-2FBE-4BD6-AA6C-54615F16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20A4B-7DFF-43DF-BA86-5711A7C9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D68D6-BFB8-4519-8BD0-BF012C49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1DF18-AE48-4CB2-9DD2-F7E1E604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BF017-503A-476C-ACD8-C92F1E65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90474-3C7C-42D7-A2A1-CFDD7B87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1C487-E817-4EFF-BDFB-962C54D4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4CEA8-524D-4C51-A693-EE25D66B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A87F8-721B-49F7-93FB-924A9DC7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18C8-F4C4-4D04-9A57-00C5D301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851EE-E7A2-470B-B455-08063A75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861C1-7DC1-4B35-8EE1-24152749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3E400-F504-4A17-8C78-EC9557A5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272AB-5061-44DD-98DE-1DEEC916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3262A-0BDF-4BA7-834C-55209D6C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1360B-AC5C-4709-8FE5-213347DB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79B50-9CBA-4975-BBB4-32FED738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C4C50-F133-491C-A972-37A1D250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CA7B5-3BF2-4EFC-926E-C1A29E2B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F85AA-C0D5-4A91-9FD0-CD292E54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3F05-93F8-4C32-9285-D9128677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A2013-ABC5-485A-A421-6AB312EE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9DB47-B3BF-4840-9BCF-EB9583A2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AE4DD-11D1-4EAF-9CA0-23346650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26D5E-FDE9-416F-AA60-098C2A9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61899-15BD-4BFC-B5A1-F0A94149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E1213-AB43-44FA-B161-09478C3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CEDD4-0397-4836-96D7-B7A252A9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7D737-8D13-4387-BBC9-BA1C43BF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0216E-2BB2-4DF2-8A61-CFA72FB1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358B4-F3DE-468F-806F-E4A87A5A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91E8-9524-40A9-8CB5-4646CF54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1B8A9-0646-4FBB-8BD4-441E5080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E1D1B-7773-4891-844B-7293AF8D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D4D17-958E-4C3A-9C04-CDE2912D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95AFA-A9B7-45CA-85FA-1DD86FE8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64478-0F2B-41BA-9FC3-B23A9E19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6C0DC-17C4-4315-9380-6271CBF2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70F4E-3B61-4567-A3EB-A99F0188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C69ED-370B-430B-A05A-07A1C437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90B84-DD8C-4AF9-8CCA-0BC0D873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FB94D-E961-4235-98A9-FF38AC93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F132-8332-45B8-B90B-FAD4F547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DD2BF-16AA-46ED-8B84-F9707507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0CC0C-85DE-4CF8-923F-4A67396E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610D3-667E-4C08-9742-649D21A5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201EA-96F9-4DF1-B142-D9F31CC8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9F92A-D5EF-4D49-AA45-745937EB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4D9C2-7F40-47ED-8EDE-15152D97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2BD149-AA6E-4CCB-B2F1-FD6926BF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5B20A-49A4-4839-B0EE-A41897BB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F91F1-86EA-4502-9900-B498525B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DADEE-A109-4F1C-87F9-09E8750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8358-6CE3-4E0F-9039-7C9BFAA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7C07D-760C-4E7F-B988-EAF6DC55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A2EC1-637B-4A86-8BD7-80E91DB3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F782F-A5F0-41EB-BC30-377E63FC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8472B-991E-4BE5-80D1-7BF88B7E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89DFB-4456-47AA-A365-6B97462C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9CB5E-A4EE-4E3F-8C02-5173BF92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46186-68FA-47EC-9952-0427DB49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92172C-2834-484B-BC25-E46FD69D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DBBE3-CB27-4C8F-85A5-C2874449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1827F-8E82-46F7-BD0B-C0F22EB2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507-89B3-41ED-8434-C45A7BAB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5B2E-FD5A-4B18-82E9-72111AF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9B11D-4C12-42BF-982E-38F74AB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4C9C6-F4F7-4FE0-85A6-7793271E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B2A1A-05E5-4BA3-9622-C9ABF1D8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1D284-EBED-4655-A9A6-8FE825C1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CB713-C686-4974-94CA-A01293CC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E3CE6-94EB-4087-A36D-BE0EC333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413781-FBC1-4967-9ABA-D1DC98F3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0055E9-F810-43B1-8063-07347E9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D0610-086E-441C-8924-89B5ABC8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3E93E-DC38-4F35-83B3-27E26A6C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C8CD-4E02-4924-8F01-15E9A07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D015B-6BF2-4E23-82EB-BE96A1E9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76247-072E-425B-A034-2A2DE8EF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03BD6-1229-4330-91DE-C496C3EA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BEE79-8AE6-4F2A-8920-9695200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99A97-D3FA-499F-B80C-00BC9A53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7DB48-7D7E-4FBC-8E82-1AD26181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52CEC-EEBF-4B1C-8B96-3174BD55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A7F6-B21C-40F4-8138-F616A601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9474-DBB0-4EFF-8339-ADBDD35F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5CA0-63DF-4BA0-B18E-2CDDEB48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E280-09AE-4C28-88F4-3D4851F6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5936-F117-4D59-BF24-61BC0F29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C774-1C3C-4FCE-994E-7C9D40BF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D175-48A8-4B5F-82A8-CB80A1AA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6068-A99E-40BF-8C8F-72B6D4DA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C55-33BE-476D-AF7B-FAA70655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E00A-2427-4655-9052-672CF620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100F4-7A7E-46F2-9801-BED9692F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CF5E-B2DB-44DD-A185-87C933E4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54A4-0538-4BE6-A640-9A92AD6C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7DB6-091F-4BE1-AE7C-D1DD4365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72185-3A4B-435A-AC6C-E71BDD95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562F-C22E-4DB8-B850-C295E456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1633-8883-4EC4-9165-AFF11F1C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2842-A414-43BE-A176-B7716346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C021D-9736-4200-A8B4-1874DD06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098-1DD5-4567-9FC9-31F7C9BC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9C6A9-F42F-4D15-8682-98385354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1F3EF-C600-4E71-B52C-C8338C58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C22E-6398-482E-9278-8C9141AA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4427-E607-499B-8710-77EF289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362E-05D6-4E05-8A85-36AD4005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336C-6A58-48F0-89B3-8E6156C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7F6C-3021-4ADD-9E83-17E2A009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3E7FC-0AF7-4C29-8B0A-FB6E6AC6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7AE40-3397-41CA-A118-2DA0BC43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EE59-7C44-4585-81D8-D3411048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CE0-23B3-4C3D-A7F4-8A5A1C7F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8E0EF-B5AF-433C-B396-E250AAF5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DEC7D-3778-42C9-A966-87B1917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0385F-0012-44C9-A244-EDA9F980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F4A5B-357B-4CB4-88C2-D871CC2F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990A6-59EF-48C8-BFF0-C229E223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D03E0-4D50-4DDF-8D66-BF9DDCC7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6DA2A-0DD4-43F1-A3A6-C4B48F37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76642-E50C-4B8B-A5F6-31EABE33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39005-AA8E-455B-AA4C-1271C72A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DD4F9-EDBD-4B00-99E8-64A8F367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67E-3DA6-4F7E-904A-17D218D4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ECBB2-FFE7-4EF5-B361-E4E252FF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3E1E-AFBE-4E88-8A3C-984E57D7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A0B79-A0C0-42E0-B60B-BA1A9F1B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D57BF-D59A-4CB2-A7D1-7645EED5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11270-8FB9-4D01-8117-D439926E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78B0-C4AF-411B-86F1-608B7367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5A692-AB99-43AB-B1F6-4A7E34B2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E79FA-41D9-4593-A957-CCD9E40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D2A9-7DA9-424C-A63D-3F46960E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DE48-4622-4DDF-8933-4D7F215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C15-1A1E-4A70-92CF-DB48D1D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B0EB-C96E-4C72-BB08-94C5525F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C15E6-E80A-408A-99E6-358370FB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501D6-90FC-4193-8172-31F97A95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1250-5DE3-4ACF-A759-CB0CAB1F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742E6-24FE-4F0E-A715-81F87C61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583E3-637B-4A09-8A31-3389E337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DC11E-3AE8-4A63-ABCD-1CF2E67B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2B263-47D5-4F7A-88D8-149C449B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8D7C9-58FA-4DF2-B1E0-ADEDB8EE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92636-D406-46FE-AC7E-381460E0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D8D-CA11-4F50-A6FE-65579CB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B512B-0061-4E2F-BA71-76EF9C4D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2566-F79F-4581-B61B-81A09EE1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96A55-65DD-485E-BF82-070BFD7E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706F-88CC-4AE8-B8A3-0DF29E25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5701-6A3F-401C-8B33-92AB15AC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570C0-5263-4166-BC85-7586767E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8ACD0-5510-47E4-8D32-4CBC5778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59E91-EB5F-4A2C-9B49-A52F05BA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B9F9A-172F-40A3-A53C-13B62868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862E6-3529-41EE-AF40-AE554B1C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FC5-F74C-431B-AE73-60437E05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051FE-12F4-4524-A083-066FB42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207D1-EDAF-485A-ACB6-0BA8D366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A51E5-3569-44E5-9A41-DD32C058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FC90E-0D9A-4894-9309-1DAFC5F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21E96-95BE-4483-A03F-01C1E889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847CD-A0C7-481B-97A7-0AC28703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10AC6-14B1-43CA-BCE8-5B8F8189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87444-90CC-4615-8C5A-A276A54C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B245B-37A7-4AD2-A356-A14BC69F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95E15-BF3B-4D10-871F-A5C66236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EB1E7-0453-4A5B-BB1E-0983541D866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08655-3F35-4330-A424-E30111E5FBA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CF1FC-F2B8-4EAB-9799-E4E8CEAF1ED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53493-7BE9-4FC6-BB24-736E1ED1236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3D1E9-C241-40DB-BADD-B3C4FE23311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D5292-B360-4A55-9A27-F7F3B351D29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7FF07-1358-4669-A9ED-B1188E0935D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8DABB-C9D4-474B-A39F-0272EAE18A7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0D843-2D3A-44FD-9E84-C627E26A3F5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CFA53-B779-4950-9521-FB399F598C5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75837-FD9A-4D24-B272-40D9676A536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2EB3F-2CC1-4158-92B7-923AC531664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36449-FC32-4773-8F7D-BDD5D98F0BA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819E8-3CAA-4F5E-B74C-7F8C7FF0D52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8D380-F5F5-49C6-BD47-52F01E6AF0B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8477F-0B83-4F3C-A752-21B218EE93F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1B8EF-37B3-46CF-868F-62D22BDBF9C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D1DDD-0486-4F18-AB1A-554495E4DDB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280" y="2743200"/>
            <a:ext cx="60692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ffffff"/>
                </a:solidFill>
                <a:latin typeface="Trebuchet MS"/>
              </a:rPr>
              <a:t>ТЕРМОТЕРАПИЈА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516640"/>
            <a:ext cx="61070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99640" y="752400"/>
            <a:ext cx="6527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Циљеви </a:t>
            </a:r>
            <a:br>
              <a:rPr sz="3600"/>
            </a:b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од примене топлотне 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1. Аналгез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Релаксација (мишићни спазам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3. Хиперем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4. Повећан екстензибилитет колаге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5. Убрзање метаболичких проце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71280" y="2336400"/>
            <a:ext cx="78483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1. Субакутна и хронична мишићноскелетна стања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(тендинитис, теносиновитис, бурзитис, итд.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2. Бол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3. Артритис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4. Контрактур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5. Релаксација мишић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6. Хронична инфламација (посттрауматска стања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 РА, дегенеративни артритис, ...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Контраиндикације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за примену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ermoth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99640" y="2336400"/>
            <a:ext cx="770436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Акутна траума, инфламација, хеморагија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оже да погорша акутну инфламацију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штећење циркулације (исхем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в. метаб. активности може премашити капацитет арт. васкуларизације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ремећај коагулације (нпр. хемофил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Велики ожиљци: ожиљци су аваскуларни и не могу добро да расипају топлоту: Малигнитет (повећава потенцијал за раст и хематогену дисеминацију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пште контраиндикације (когнитивни дефицит, оштећење сензибилитета, и др.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блици терм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971640" y="2133360"/>
            <a:ext cx="6449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елоидотер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анг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песк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ваздух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900000" y="2336400"/>
            <a:ext cx="73440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 се обавља помоћу топлих парафинских облога и потапањем екстремитета у парафи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оред тога примена парафина се спроводи као маска код парализе н. Фациали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спреј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калуп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33520" y="2336760"/>
            <a:ext cx="821520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је специјални вид парне коморе. Саграђена је од дрвета. Под је тако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ђ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 од дрвета. У тој просторији су смештене клупе. На најнижим клупама где је температура 6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ли на највишим клупама где је темература 90-10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Обично је боравак у сауни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0-30 мин. Након боравка у сауни узима се хладан туш.Током боравка у сауни расте температура коже и до 4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 организма до 39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Долази до профузног знојења. Понекад се излучи и 20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ml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ноја. Убрзава се пулс, пада дијастолни притисак. Примењује се обично 2 пута недељно. 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има снажан стимулативни ефекат на организам, повећава општи тонус и радну способност организма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РИОТЕРАП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10920" y="2336400"/>
            <a:ext cx="80643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ецептори за хладноцу се називају Краузеова телашца и има их највише на лицу - око 20 на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Примена криотерапије треба да буде кратка, јер проду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ж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ена криотерапија изазива парезу крвних судова и успорење крвне струје и јавља се осећај хладноће а затим дрхтавица. Из тих разлога треба се држати по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Kowarschik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у следећег правила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"кратко и хладно".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цијенти третирани ледом у 90% случајева имају смањење гамма спастичности, а ефекат се одржава чак 10-12 сати по престанку процедур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Терапијски ефекти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899640" y="2336760"/>
            <a:ext cx="741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риотерапија делује аналгетски. Апликацијом леда долази до смањења надражљивости и проводљивости нервних структура. Аналгезија се може запазити код посттрауматских стања где имамо реактивно запаљење и едем. Смањење едема доводи до смањења притиска и надражаја на периферне нервне завршетк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Техника</a:t>
            </a:r>
            <a:r>
              <a:rPr b="0" lang="sr-Latn-C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апл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окал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акова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мерзиј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2-3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ин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5-6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ут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иомасаж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убјективн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сећај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жарењ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ак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спарљиве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чност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ryo-cuff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етод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48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т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д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7129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 за примену кри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ишицни спазам након повре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веже повреде меких ткива 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ток и бол зглобова код запаље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пастичност код оштећења гамма моторног система (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clerosis multiplex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водна терапија за примену кинезитерапиј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лгодистрофија у првом стадијуму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Р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 Е Р А П И Ј 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692360" y="2336400"/>
            <a:ext cx="5729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грева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вође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ђе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дузима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нтра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971640" y="2336760"/>
            <a:ext cx="741672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лцерације у периферним крвним судовима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артеријска оштецења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ртеријска оштећења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II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V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дијум по 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Fonten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штећење сензибилиетт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алергиј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orbus Raynau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ња након промрз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rebuchet MS"/>
              </a:rPr>
              <a:t>ТАЧКА ТОЛЕРАНЦИЈ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ачка толеранције је степен загрејаности материје који још увек не прави никакве штетне последице на организам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За сув ваздух тацка толеранције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10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раница толеранције за воду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45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 парафин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65</a:t>
            </a:r>
            <a:r>
              <a:rPr b="0" lang="sr-R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елоид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5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ПЕФИФИЧНА ТОПЛОТ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личина топлоте измерена у калоријама, која је неопходна да се 1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gr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еке супстанце загреје за 1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0 C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азива се специфицна топлота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ТЕРМОТЕРАПИЈА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У УЖЕМ СМИСЛУ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1042920" y="2336400"/>
            <a:ext cx="6378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ласификује с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ем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дубини пенетрације топлот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начину трансфера 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ма дубини пенетр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ovrš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toplot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akovan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fluidoterap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IC zraci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ubok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ultrazvuk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kratkot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mikrota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РЕНОС ТОПЛОТ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971640" y="2420640"/>
            <a:ext cx="792144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ду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овођење топлоте)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адија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зрачење)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ве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енос топлоте преко неког медијума –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   топлотно струјањ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иолошка деловања топлот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33160" y="2336400"/>
            <a:ext cx="83595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Хемодинамск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Вазодилатациј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мањење хроничне инфламације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инфламацију, едем, и крварење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(егзарцебација акутних инфламаторних повреда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Неуромишићн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моторну и сензорну проводљивост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971640" y="2205000"/>
            <a:ext cx="7704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фекат на зглобове и везивна ткив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мишићног тонус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већање екстензибилитета колаген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укочености зглобова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налгетско дејств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Остал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општени ефекат релаксације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4:52Z</dcterms:modified>
  <cp:revision>38</cp:revision>
  <dc:subject/>
  <dc:title>Balneoterapija</dc:title>
</cp:coreProperties>
</file>