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C51-0AED-4915-85CF-3439DDB5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52B-0581-4B2E-83ED-64475425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109-AA7F-44DC-9153-C0509A36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686-409C-4458-85D4-737A89A2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D50-D765-4ED5-A60B-DFCFCD75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76C-02CB-4BE5-9915-4E3E338C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4BE-4D6E-430E-9076-05B8E61E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7636-251D-4960-AFB9-D9EA7857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57C-F607-48DC-9CFA-2839F372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E83-F3C3-44DF-94A8-03525D69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5FA-8308-4740-8C29-93B9EDDA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AC5-EF7D-4F9E-A946-9505FB5A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AC24-CDFE-475F-A6C9-E6AA99B12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611280" y="46368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тарина Парезанов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ћ Илић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МАГНЕТОТЕРАПИЈА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1332000" y="1746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1332000" y="210672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3399"/>
                </a:solidFill>
                <a:latin typeface="Arial"/>
              </a:rPr>
              <a:t>Дејство магне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целуларни-дејство на ћелијску мембрану (ед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неуровегетативни-преко хипоталамуса на ЦНС и 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 ендокрини систем (отпорност,сан, спастицит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циркулаторни-преко надбубрега и хипоталамуса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 (рефлаксно вазодилатато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Arial"/>
              </a:rPr>
              <a:t>Индикације за магнет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мијалгије, периартритис, епиконди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артрозе, артрит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цервикални и лумбални 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дисторзије, контузије, луксације,фрактуре, остеоп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васкулопатије, торпидни улкуси разне 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херпес зостер,постхерпетичне неурал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екцеми, акне, фурункулозе, дерматитиси, псор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Контраиндикације за магнетотерапиј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гравидит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поремећај коагулације-хемофил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паце-мак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јувенилни узра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хипотенз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малигнит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фебрилна ст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активна форма туберкул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5520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Исто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Модерна али не и нова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Кинези су пре ви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ше хиљада година стављали магнетну руду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на поједине орг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Египћани су користили блато из реке Нил богато магнет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XVII веку Wiliam Gilbert, откривач електрицитета, 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препоручује магнете за леч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XVIII веку(1723) Glaisault производи прв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вештачке магнете, али тек 1777. год Le Nobl први 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представља вешта</a:t>
            </a:r>
            <a:r>
              <a:rPr b="1" lang="sr-CS" sz="2000" spc="-1" strike="noStrike">
                <a:solidFill>
                  <a:srgbClr val="660033"/>
                </a:solidFill>
                <a:latin typeface="Arial"/>
              </a:rPr>
              <a:t>ч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ке магнете медицинском св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Данашња истраживања су усмерена на испитивање вез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између геомагнетских поља и биообјек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Магнетно поље човека износи 10 на минус 14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Најснажније биолошко магнетно по</a:t>
            </a:r>
            <a:r>
              <a:rPr b="1" lang="sr-CS" sz="2000" spc="-1" strike="noStrike">
                <a:solidFill>
                  <a:srgbClr val="660033"/>
                </a:solidFill>
                <a:latin typeface="Arial"/>
              </a:rPr>
              <a:t>љ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е човека ј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магнетно поље ср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3200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Предности магнетотерап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преко гипса,завоја,одеће,ме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добро се комбинује са свим ост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лим агенс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постоји минимум контраинд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одмах по настанку повреде или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Недостаци магнетотерап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човек нема рецепторе за магнетно поље,</a:t>
            </a:r>
            <a:br>
              <a:rPr sz="2400"/>
            </a:b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 нема осећај да се л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дејство је блаже, захтева дужи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82818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Подела магнетног поља у терап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А: 1. ста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променљива: а.импулсна; б.алтернати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- импулсно магнетно поље настаје проласком импулсних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  (галванске) струја кроз магн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- алтернативно проласком наизменичне струје кроз маг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Б: 1. нискофреквентна–до 100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високофреквентна више десетина МХз-загре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3. мешовита – високофреквентна појла која се генеришу у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серијама раздвојени паузама.Фреквенце серија су из високих 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фреквенца.,пауза су из ниских фреквенца. Индукције су ма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како би се избегли термички ефекти који увек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прате високофреквент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Ц: 1. природна-геомагнетно по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вешт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Примена магнетног по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333399"/>
                </a:solidFill>
                <a:latin typeface="Arial"/>
              </a:rPr>
              <a:t>Безапаратурном техник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Магнетофоре - ситни округли или плочасти предмети изграђени од магнетне руде са примесом см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Апликују се на оболили део дела и носе 2-2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333399"/>
                </a:solidFill>
                <a:latin typeface="Arial"/>
              </a:rPr>
              <a:t>Апаратурном техником-користе електромагнетно пољ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апаратурној магнето терапији користе се уређаји 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- ниско фреквентним стру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- високо фреквентним стру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971640" y="1201680"/>
            <a:ext cx="8172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Ниско фреквентно импулсно </a:t>
            </a:r>
            <a:br>
              <a:rPr sz="2400"/>
            </a:b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магнетно поље 2-100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Високо фреквентно импулсно </a:t>
            </a:r>
            <a:br>
              <a:rPr sz="2400"/>
            </a:b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магнетно поље 100-640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Модерна апаратура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има фреквенцу од 5-640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Електроде код магнетотерапије :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анте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соленоид</a:t>
            </a:r>
            <a:r>
              <a:rPr b="1" lang="sr-C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6560" y="2054160"/>
            <a:ext cx="8548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1" lang="sr-CS" sz="2600" spc="-1" strike="noStrike">
                <a:solidFill>
                  <a:srgbClr val="333399"/>
                </a:solidFill>
                <a:latin typeface="Arial"/>
              </a:rPr>
              <a:t>малa дозa     великa doзa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индуkцијa 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B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(mТ)                     3                   5-1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фреквeнца f (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Hz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)                    &lt; 6                 25-5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трајaње трeтмaнa Т (m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in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)     5-10               15-3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број третманa 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N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(путa)          5-15          2 нед.-3 мeс.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31480" y="108864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Доз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рање</a:t>
            </a: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96660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Примена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36720" y="1959120"/>
            <a:ext cx="756108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- Локалн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- Општ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Надбубрежна жлезда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 (хронични ифламаторн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и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реуматизам, артрозе, упале венског порекла, ране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Јетр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инфламаторни процеси, инфекције, некрозе,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консолидације костију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зин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теже трауматске повреде, едеми, хематоми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Епигасриум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инфламаторни процеси, </a:t>
            </a:r>
            <a:br>
              <a:rPr sz="1800"/>
            </a:b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поремећаји периферног крвоток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Лимфних чворова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 (проблем лимфоток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Сакрум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артрозе, исцхиалгие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Терапијска дејства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локална вазодилат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алгетс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тиедематоз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тиинфламатор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трофич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стварање кал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зарастање рана и улк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4:16Z</dcterms:modified>
  <cp:revision>37</cp:revision>
  <dc:subject/>
  <dc:title>Slide 1</dc:title>
</cp:coreProperties>
</file>